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6D2-4FE8-4522-A593-9FEF563D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D77-20A8-44DA-BE7C-F1BF5323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C70-388B-4C35-873B-262C1DE8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875-2DB9-4C29-BDFC-A1A0C198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02A3-93B4-4968-A658-9314FE27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5239-3CE6-44B8-B3C9-CDF38FDA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EAC4-7092-4B2B-B0DD-8900EF77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F62B-C3A2-4A58-B5D6-C8F9AE1D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FA66-BBDA-4F56-84D8-5DFB3835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F916-70CF-4DFA-80C4-DE9BEEB2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5C05-1CBC-4F2F-B04D-2E108643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7FE-C18C-44FA-90CA-CD9C8837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7C8-8301-48D3-B90B-DF2CFC3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43D0-7365-48CA-B816-BC66539D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7576-A670-4AFE-9D61-36A9CC6E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710A-EDEB-4EED-8DF1-734BD640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2DC2-01A6-4316-B8DF-BCEEE109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4A1-E637-4930-96CF-9601D678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2C5-0EE3-4190-913A-E70B0CB8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554-EA59-4849-B11E-1BD91FF4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0E5-A7C9-41E0-AF17-30F73D8D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BF1-FF68-499D-94EC-3E70C85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519-E973-4C01-B5DA-10357767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11A-6A36-4702-ADFC-22DC1374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0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6C10A-F90B-4C42-895B-65FB7F6F6EC5}" type="datetime">
              <a:rPr b="0" lang="en-US" sz="1200" spc="-1" strike="noStrike">
                <a:solidFill>
                  <a:srgbClr val="2f2f2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D114F-B285-4CFE-AA1F-580174654A92}" type="slidenum">
              <a:rPr b="0" lang="en-US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0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94884-A86F-49D0-A2FD-8CAF8BA2BCB2}" type="datetime">
              <a:rPr b="0" lang="en-US" sz="1200" spc="-1" strike="noStrike">
                <a:solidFill>
                  <a:srgbClr val="d9d4c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8AADF-BA33-4094-BC03-1E7A23B24454}" type="slidenum">
              <a:rPr b="0" lang="en-US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858080" cy="2000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hapter 14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6204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ost of an atom is empty space occupied by nearly massless electron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ectrically neutral particles, neutrons, are also located in the nucleu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number of electrons equals the number of protons in an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Rutherford_atomic_model"/>
          <p:cNvPicPr/>
          <p:nvPr/>
        </p:nvPicPr>
        <p:blipFill>
          <a:blip r:embed="rId1"/>
          <a:stretch/>
        </p:blipFill>
        <p:spPr>
          <a:xfrm>
            <a:off x="2749680" y="1828800"/>
            <a:ext cx="3644640" cy="4111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01480" y="9748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501480" y="974880"/>
            <a:ext cx="559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im26"/>
          <p:cNvPicPr/>
          <p:nvPr/>
        </p:nvPicPr>
        <p:blipFill>
          <a:blip r:embed="rId1"/>
          <a:stretch/>
        </p:blipFill>
        <p:spPr>
          <a:xfrm>
            <a:off x="270000" y="1571760"/>
            <a:ext cx="84931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cont</a:t>
            </a:r>
            <a:r>
              <a:rPr b="0" lang="ja-JP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7000" y="1558800"/>
            <a:ext cx="586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erford was shocked when some alpha particles were veering off at large a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vely charged alpha particles were moving with such high speed that it would take a large positive charge to cause them to bounce b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erford and his team had to come up with an explanation for these unexpected resu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im30"/>
          <p:cNvPicPr/>
          <p:nvPr/>
        </p:nvPicPr>
        <p:blipFill>
          <a:blip r:embed="rId1"/>
          <a:stretch/>
        </p:blipFill>
        <p:spPr>
          <a:xfrm>
            <a:off x="5894280" y="1400040"/>
            <a:ext cx="32497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501480" y="974880"/>
            <a:ext cx="74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cont</a:t>
            </a:r>
            <a:r>
              <a:rPr b="0" lang="ja-JP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01480" y="1828800"/>
            <a:ext cx="430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ypothesized that almost all the mass of the atom and all of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charge are crammed into an incredibly small region of space at the center of the atom called the nucle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m28"/>
          <p:cNvPicPr/>
          <p:nvPr/>
        </p:nvPicPr>
        <p:blipFill>
          <a:blip r:embed="rId1"/>
          <a:stretch/>
        </p:blipFill>
        <p:spPr>
          <a:xfrm>
            <a:off x="5067360" y="1558800"/>
            <a:ext cx="3695760" cy="3548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501480" y="586116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20 scientists identified the positive charges in the nucleus a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The 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501480" y="1819440"/>
            <a:ext cx="788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utr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electrons have almost no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Rutherfor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odel, the only other particle in the atom was the prot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t that the mass of an atom should have been approximately equal to the mass of it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t was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The 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501480" y="1819440"/>
            <a:ext cx="788040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most atoms is at least twice as great as the mass of it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proposed that another particle must be in the nucleus to account for the extra m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icle, which was later call the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neu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ould have the same mass as a proton and be electrically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another 20 years before scientists were able to show by more modern experiments that atoms contain neu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Ne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im35"/>
          <p:cNvPicPr/>
          <p:nvPr/>
        </p:nvPicPr>
        <p:blipFill>
          <a:blip r:embed="rId1"/>
          <a:stretch/>
        </p:blipFill>
        <p:spPr>
          <a:xfrm>
            <a:off x="4800600" y="1828800"/>
            <a:ext cx="3848040" cy="3838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44280" y="1828800"/>
            <a:ext cx="475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of the atom was revised again to include the newly discovered neutron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Further Developments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n into the twentieth century, physicists were working on a theory to explain how electrons are arranged in an at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hysicist named Niels Bohr even calculated exactly what energy levels those orbits would represent for the hydrogen ato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ever, scientists soon learned that electrons are in constant, unpredictable motion and ca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 be described easily by an orbi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934640"/>
            <a:ext cx="3505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modern day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lectron cloud mode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xplains the unpredictable wave behavior of electrons, which could be anywhere in the area surrounding the nucleu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0240" indent="-300240"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5" descr="atomic_cloud_model"/>
          <p:cNvPicPr/>
          <p:nvPr/>
        </p:nvPicPr>
        <p:blipFill>
          <a:blip r:embed="rId1"/>
          <a:stretch/>
        </p:blipFill>
        <p:spPr>
          <a:xfrm>
            <a:off x="3962520" y="2133720"/>
            <a:ext cx="5181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Greek philosophers devised a theory of atoms, or tiny particl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ohn Dalton combined the idea of elements with the Greek theory of the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Matter is made up of atom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toms cannot be divided into smaller piec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ll atoms of an element are exactly alik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fferent elements are made of different ato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1028" descr="Dalton_atomic_model"/>
          <p:cNvPicPr/>
          <p:nvPr/>
        </p:nvPicPr>
        <p:blipFill>
          <a:blip r:embed="rId1"/>
          <a:stretch/>
        </p:blipFill>
        <p:spPr>
          <a:xfrm>
            <a:off x="3657600" y="3048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Title 1"/>
          <p:cNvSpPr/>
          <p:nvPr/>
        </p:nvSpPr>
        <p:spPr>
          <a:xfrm>
            <a:off x="1371600" y="3048120"/>
            <a:ext cx="228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Dalton</a:t>
            </a:r>
            <a:r>
              <a:rPr b="0" lang="ja-JP" sz="2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s Model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alt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theory was tested by William Crookes and his cathode-ray tube experim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581280" y="3160800"/>
            <a:ext cx="43434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4"/>
          <p:cNvSpPr/>
          <p:nvPr/>
        </p:nvSpPr>
        <p:spPr>
          <a:xfrm>
            <a:off x="457200" y="1295280"/>
            <a:ext cx="80931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dow showed Crookes that something was traveling in a straight line from the cathode (-) to the anode (+), similar to the beam of a flash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oss-shaped object was getting in the way of the beam and blocking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im10"/>
          <p:cNvPicPr/>
          <p:nvPr/>
        </p:nvPicPr>
        <p:blipFill>
          <a:blip r:embed="rId1"/>
          <a:stretch/>
        </p:blipFill>
        <p:spPr>
          <a:xfrm>
            <a:off x="5257800" y="4307040"/>
            <a:ext cx="3505320" cy="228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77"/>
          <p:cNvSpPr/>
          <p:nvPr/>
        </p:nvSpPr>
        <p:spPr>
          <a:xfrm>
            <a:off x="457200" y="4307040"/>
            <a:ext cx="4800600" cy="26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okes hypothesized that the green glow in the tube was caused by rays, or streams of p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026"/>
          <p:cNvSpPr/>
          <p:nvPr/>
        </p:nvSpPr>
        <p:spPr>
          <a:xfrm>
            <a:off x="609480" y="1371600"/>
            <a:ext cx="784872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cientists were not convinced that the cathode rays were streams of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897, J.J. Thomson, an English physicist, tried to clear up th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placed a magnet beside the tube from Crooke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experiments. The beam is bent in the direction of the mag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cannot be bent by a magnet, so the beam must be made up of charged particles of matter that came from the catho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312372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758880" indent="-42696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omson revised Dalt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 to include a sphere with a positive charge and negatively charged electrons spread evenly within the positiv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58880" indent="-42696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negatively charged electrons and the positive charge in the sphere neutralized each othe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58880" indent="-4269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228600" y="1600200"/>
            <a:ext cx="8229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.J Thomson discovered negatively charged particles,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which are a part of every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90720" y="77616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oms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thompson_atomic_model"/>
          <p:cNvPicPr/>
          <p:nvPr/>
        </p:nvPicPr>
        <p:blipFill>
          <a:blip r:embed="rId1"/>
          <a:stretch/>
        </p:blipFill>
        <p:spPr>
          <a:xfrm>
            <a:off x="2629080" y="19051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arnest Rutherford tested Thoms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, which was found to be an inaccurate model of the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-47304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n atomic model with a nucleus was develop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40960" indent="-4730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ositively charged proton is located in a very small space at the center of an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40960" indent="-4730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43:58Z</dcterms:created>
  <dc:creator>Denice Fogel</dc:creator>
  <dc:description/>
  <dc:language>en-US</dc:language>
  <cp:lastModifiedBy>St. Aloysius</cp:lastModifiedBy>
  <cp:lastPrinted>2011-03-24T03:42:03Z</cp:lastPrinted>
  <dcterms:modified xsi:type="dcterms:W3CDTF">2012-10-17T15:18:27Z</dcterms:modified>
  <cp:revision>76</cp:revision>
  <dc:subject/>
  <dc:title>Inside the Atom</dc:title>
</cp:coreProperties>
</file>